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48E-95CC-4926-A840-A6404114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88B-CA11-4B84-A630-D03489E4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A89-CC22-4442-9ED8-F32E6818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313-41C2-48F6-9180-38DDD5CB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734F-38EC-40D6-9D95-0955E5E6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8B9-A75A-450B-94F9-A10693D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3E2-4007-45A9-A42C-D961110C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768-4CF4-42AE-A7C1-254D5057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603-D335-4AD9-943D-583EC447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C1DE-70CA-4A3B-A02F-242E809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14CB-6BE8-490D-BE3A-57C3E57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526-1353-45BC-8970-653E78F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27D-83C2-4C70-8C98-F50ECC9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171C-053C-4E72-BADE-B9CF691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CCAB-E545-412F-9531-1E68D7A7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8DB1-79FB-470F-B70C-0940A2B4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AC55-9E9E-4A39-8D31-8798D2A5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43A6E-97D4-4974-9835-1EAF82F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BC3F-1ACD-4887-8FA0-43740A8D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EB30-F4DB-4F5B-85C7-171E1E8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9E43-5EF8-47FB-A853-6FA1B27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B759-3B5B-4EA4-959F-2D8A078A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4C1-AEB6-47D8-B70D-CE3B62B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B5B0-F948-4822-86F0-A8BBAF8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D17B-4D87-4CCB-B283-C12EACB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50CC-C868-455D-AE2A-FB60FF0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0744-06CF-4095-8D2C-9CD33CF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8564-AB1C-4CFB-B257-F40CE09C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1EAB-A790-4A50-9D8D-6023BFE4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7F3C-3D5B-4FDF-ABF7-8E18C92B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6C2A-30FD-4FDF-887B-5286731C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0410-EF0D-4EBE-94EC-CDD5599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0C12-A91A-480C-B88E-1D0DBA4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BC2-6064-44DF-9C64-57C81994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B38C-DBBA-4B47-8289-2CF83F07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3A7A6-DE25-4048-8199-AA7B733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B4B4-75B3-4358-9D6E-50F33288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A36F-094F-45FE-9D2C-EDC35F01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8E00D-3A5D-4359-8951-9AEE185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1984-904D-4BCA-A2C9-7030D6C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F131-FA8C-4861-B18A-8090A4F6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FB59-D103-478D-B275-5BA48674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1007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99175-F57C-405A-8CB7-F5ED8456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D67-B798-4393-B5A7-535FA04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EF1-4604-4994-BBF0-3B38380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9C6-6E0D-437A-91A8-F602A99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007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19B-3BC0-47CA-8EA2-6F15320D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07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458-C254-4C09-BCCD-2DA9593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CFC-CB3A-4345-BD8C-44C5BEBE4E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F0B-74DB-4599-A179-FDE93411BB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837-0DB8-4C67-B3B9-05D6C7A17B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EE27-C91A-443B-93F4-E7F05B2522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81160" y="1255680"/>
            <a:ext cx="8710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580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i Mi &amp; Zhi L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E 632 – Fall, 2008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versity of Virgin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3" descr="CRCCtrl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3" descr="CRCGenerator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CRCLoopBody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隶书"/>
              </a:rPr>
              <a:t>Optimization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Metric: Total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activ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eakag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eff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lkg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Knob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Lower V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nstantia"/>
              </a:rPr>
              <a:t>DD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 (subthreshold desig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obust, require C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horten operation d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"/>
              <p:cNvSpPr txBox="1"/>
              <p:nvPr/>
            </p:nvSpPr>
            <p:spPr>
              <a:xfrm>
                <a:off x="2004840" y="3124080"/>
                <a:ext cx="48103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h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Technology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M 90nm Technolo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ircuit Descriptio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tlis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Simulation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chematic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FPGA Advantage 7.0 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-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oftware: Cadence 2005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imulator: Ocean with Spectr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ulation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diagram1.bmp"/>
          <p:cNvPicPr/>
          <p:nvPr/>
        </p:nvPicPr>
        <p:blipFill>
          <a:blip r:embed="rId1"/>
          <a:srcRect l="0" t="2180" r="0" b="0"/>
          <a:stretch/>
        </p:blipFill>
        <p:spPr>
          <a:xfrm>
            <a:off x="1185840" y="2209680"/>
            <a:ext cx="67723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Spectre Simulation Resul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86600" cy="46846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600200" y="5334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Data word: 0010 1001 0010 110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Key word:    1101 0010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宋体"/>
              </a:rPr>
              <a:t>Output:       1011 0001 0001 011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396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276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kage Current Simu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Content Placeholder 8" descr="Snap1.jpg"/>
          <p:cNvPicPr/>
          <p:nvPr/>
        </p:nvPicPr>
        <p:blipFill>
          <a:blip r:embed="rId1"/>
          <a:stretch/>
        </p:blipFill>
        <p:spPr>
          <a:xfrm>
            <a:off x="2895480" y="1371600"/>
            <a:ext cx="5857920" cy="4495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152280" y="3581280"/>
                <a:ext cx="2743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TextBox 11"/>
          <p:cNvSpPr/>
          <p:nvPr/>
        </p:nvSpPr>
        <p:spPr>
          <a:xfrm>
            <a:off x="380880" y="1371600"/>
            <a:ext cx="23623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nential Reduction as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creases due to DIBL effe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304920" y="4800600"/>
            <a:ext cx="281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akage Current is independent of  CLK r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  <a:ea typeface="宋体"/>
              </a:rPr>
              <a:t>Current Waveform in One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7010280" cy="4334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0" y="2133720"/>
            <a:ext cx="220968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avg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 = α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0→1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f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eff</a:t>
            </a:r>
            <a:r>
              <a:rPr b="0" i="1" lang="en-US" sz="2800" spc="-1" strike="noStrike">
                <a:solidFill>
                  <a:srgbClr val="ff0000"/>
                </a:solidFill>
                <a:latin typeface="Constantia"/>
                <a:ea typeface="宋体"/>
              </a:rPr>
              <a:t>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nstantia"/>
                <a:ea typeface="宋体"/>
              </a:rPr>
              <a:t>DD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nstantia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2133720"/>
            <a:ext cx="236232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traight Connector 7"/>
          <p:cNvSpPr/>
          <p:nvPr/>
        </p:nvSpPr>
        <p:spPr>
          <a:xfrm flipV="1">
            <a:off x="0" y="2209320"/>
            <a:ext cx="236232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152280" y="3733920"/>
            <a:ext cx="2057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A higher CLK rate helps reduce energy consumption for a certa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tal Energy per CRC cyc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52480"/>
          <a:ext cx="4038120" cy="4495680"/>
        </p:xfrm>
        <a:graphic>
          <a:graphicData uri="http://schemas.openxmlformats.org/drawingml/2006/table">
            <a:tbl>
              <a:tblPr/>
              <a:tblGrid>
                <a:gridCol w="785160"/>
                <a:gridCol w="852840"/>
                <a:gridCol w="1024200"/>
                <a:gridCol w="1375920"/>
              </a:tblGrid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nJ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E-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68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0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6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3E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3E-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6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4E-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E-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Text Placeholder 29"/>
          <p:cNvGraphicFramePr/>
          <p:nvPr/>
        </p:nvGraphicFramePr>
        <p:xfrm>
          <a:off x="4724280" y="3429000"/>
          <a:ext cx="4419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Text Placeholder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3429000"/>
                    <a:ext cx="4419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roblem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ibu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m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Q &amp;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ergy Consumption P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3" descr="Snap2.jpg"/>
          <p:cNvPicPr/>
          <p:nvPr/>
        </p:nvPicPr>
        <p:blipFill>
          <a:blip r:embed="rId1"/>
          <a:stretch/>
        </p:blipFill>
        <p:spPr>
          <a:xfrm>
            <a:off x="3164040" y="1600200"/>
            <a:ext cx="597996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228600" y="1523880"/>
            <a:ext cx="289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ptimal supply voltage is around  0.3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energy consumption starts to dominate in the sub-threshold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kage current is taking up a large proportion of average cur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C-processing circuit is simulated in FPGA and Ca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verage and leakage currents are simul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ergy consumption comparison for different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D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ptimization for minimum energy consum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ture 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multiple power supplies to speed up the critical p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up some parts of the circuit to increase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 high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MOS to the PDN to reduce leak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Q and A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onstanti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appl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RFID security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1" descr="RFID_backscatter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blem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nstrain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ergy – foremost constra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roblem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seek to find a feasible way of implementing low-power data encryption on RFID tag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ed the core hash function (i.e., CRC-Half) of CRC-MAC with PTM 90nm technolog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energy at different operating vol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ve an optimal operating voltage point for CRC-MA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d the trend of leakage current of the circu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1. A hardware implementation of CRC-MA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481040" y="1757520"/>
            <a:ext cx="61819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C-MAC Briefing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2548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2. C implementation of CRC-MAC as keyed one-way func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781280" y="1662120"/>
            <a:ext cx="5305320" cy="4648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773360" y="2046240"/>
            <a:ext cx="216360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2398680" y="5475240"/>
            <a:ext cx="4106880" cy="554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ircuit Desig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g 3. A symbol view of CRC-Hal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Content Placeholder 4" descr="CRCHalf_sch.bmp"/>
          <p:cNvPicPr/>
          <p:nvPr/>
        </p:nvPicPr>
        <p:blipFill>
          <a:blip r:embed="rId1"/>
          <a:srcRect l="2509" t="29957" r="2509" b="16643"/>
          <a:stretch/>
        </p:blipFill>
        <p:spPr>
          <a:xfrm>
            <a:off x="217440" y="1879560"/>
            <a:ext cx="86900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RCEnable_sch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30:54Z</dcterms:created>
  <dc:creator>QI MI</dc:creator>
  <dc:description/>
  <dc:language>en-US</dc:language>
  <cp:lastModifiedBy>JCC</cp:lastModifiedBy>
  <dcterms:modified xsi:type="dcterms:W3CDTF">2008-12-02T18:57:59Z</dcterms:modified>
  <cp:revision>293</cp:revision>
  <dc:subject/>
  <dc:title>Implementing Low-Power CRC-MAC for RFID Circuits</dc:title>
</cp:coreProperties>
</file>